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7DA-3214-4085-86F4-53921CBC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FB6-7A36-4D61-A4BA-689E2A0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39F-40E1-4350-B99C-1AF99EB2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A0F-1F64-4494-8559-A3E21696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14E5-F05F-431C-B0ED-7FD14C32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46C8-8186-4F9B-9832-0EB66CD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5546-52E9-4EC0-9450-6669AF5F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9FA3-3F25-4E03-AD3E-B487BC6F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E297-2A35-4B0E-872B-565BF4B3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893-5AF5-4B88-BA2B-FA03BBFB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5288-0F72-4B64-B1B8-D5C261F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0C5-2452-46D5-B98E-3750792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3DE5-46F3-484A-A3D8-A51B350C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7ADD-CF2D-411A-B430-9CC906A7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2696-AC5A-4056-8EC0-EB530EEF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D988-8AFE-464B-9B7A-7F6782C7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550-D759-4749-A7B8-B81EEA82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3C84-A081-4192-8D82-F320E82B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F757-2CCA-4FAF-92C7-0F742A4C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606A-2B0E-4BCC-A0D6-9F73F0B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3E9B-FB33-405C-9C6A-924FC344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6420-46DE-4032-88A8-82D95367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DE0-F076-4A38-96CE-8BB342CB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81C2-E6E3-4A27-AE6A-244C8ED8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80F3-3BE3-47DB-BD3F-E6A85802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AEB9-E69C-48A9-AB18-81B80EFC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F827-11E2-4A67-BFA7-ED64327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2641-1EB0-44AC-B73B-8254AC61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B2B6-F513-414C-B68E-81897ED9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C2C9-D095-414E-8675-1E3DE5E1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FB9C-9B14-4A20-B1EC-16D710AC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33C0-893B-4420-98E3-770DD70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C083-6786-4604-8A7C-09694E28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C52-C27A-4007-BEDB-00EEC953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3EDC-BAEE-4588-B078-4DF6D03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C8A2-83A1-482C-820C-C0256AEA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8014A-42A5-406B-B269-FDA79B2C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4DF6-006F-4591-BF4D-B5C3D53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461E-47E3-4290-AA0F-60FA636F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DF56-AE22-4793-8536-EC41D8F3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5166-EFA5-4CBB-BFAB-44500AF4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CB7F-D001-41F3-9512-F3D90A6A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B83F8-2243-45D2-A8F2-A3184111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0B7-FE2F-4AF0-8F9A-1D087C60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4FD-8F0E-493D-B373-48AFB5C7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EC3-C22A-4184-9746-ADE75BD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083-55CA-44F3-BAD1-4B26E27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107-B826-41C4-BA1E-517D6093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51C3-7BE8-4D97-B06C-BA9B4A2BC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6EC-8390-41F0-B790-2F5EE5344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9A9-D78F-456C-8419-4FA511AE08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48E1-073C-4535-9B0C-CE57818A2F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Glorious Rev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s is the stor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00’s: King Henry II introduced the Jury System, King John signed the Magna Carta, Edward I started the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0-1500: The Tudor Family, including Henry VIII, Edward VI, Mary I and Elizabeth I neglected democratic principles by restricting basic principles such a freedom of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en Elizabeth I died, her cousin James I Stuart and his son Charles I were even worse.  They ruled by divine right.  Finally, the people wanted to destroy the monarchy so they started a Civil War.  Those who supported the king were called Cavali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se who wanted to oust the king were called Roundheads.  The Roundheads won and Charles I was executed on January 30, 16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fortunately, Oliver Cromwell, a military dictator came to power.  He was a strict puritan who did not allow any form of entertainment such as 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get frustrated with Cromwell and demanded the return of the Stuart family to the throne.  Charles II Stuart was crown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ime period was known as the Restoration. He was known as the “Merry Monarch” because he pleased the people by allowing more freed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 II, Charles II brother became king when he died.  The people were concerned because James II was Catholi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olitical parties in England invited James II daughter, Mary and her husband William of Orange to overthrow the 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When William and Mary arrived in England, James II fled the country for France.  This revolution was non-violent and is call the Glorious Revolution for this rea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William and Mary, England was at last a firm Democratic nation.  William and Mary signed the Bill of Rights and gave Parliament more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.  Today England has a Constitutional Monarchy and is one of the leading democratic countries in the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xt Step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translator or a dictionary to define words that you do not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at the bottom of each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of each scene using colo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eople and objects in each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22:52:03Z</dcterms:created>
  <dc:creator>bcavanaugh</dc:creator>
  <dc:description/>
  <dc:language>en-US</dc:language>
  <cp:lastModifiedBy>Bailey Cavanaugh</cp:lastModifiedBy>
  <dcterms:modified xsi:type="dcterms:W3CDTF">2006-10-03T20:55:22Z</dcterms:modified>
  <cp:revision>3</cp:revision>
  <dc:subject/>
  <dc:title>The Glorious Revolution</dc:title>
</cp:coreProperties>
</file>