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3956-6D37-40C7-8554-899FE1A9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47C9-A524-4D4E-B5CD-14EC03D9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AE85-0915-45CC-A085-7FF35409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7327-F630-496F-B64D-29EB0979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C0A7-B24D-4FD7-99C4-E81EBBBF2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2BC7-AB0B-4423-AF09-DA16B5B4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A430-7B63-453B-82C9-8502DD8F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086A-8AE5-4F0E-9F3A-A7050293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DB7D-0757-4A84-B5AE-839DA7C4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644B-A879-4682-A76A-7AE7CF4D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15A2-6AC8-42F3-B305-FA7DA7DF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E580-313F-41B9-9C33-5D5E9F9D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0B68-82FD-43FA-991F-D2FB88E0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F236-CA1A-456F-A439-D74DB9DF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FD59-10EB-42A9-A431-007CA29D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C8D4-1131-4B13-A73E-3A0E20D41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05EA-BE22-4581-B029-B1DFAFB7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CE31A-2483-4F89-A39F-DB7669FDC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1C6C1-755A-443A-8378-4B10A805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B20AC-DA2F-4677-9E44-537182A3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EABEA-AD82-46ED-96A8-2918DE13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86BAC-99F3-4015-A3BC-51146054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C69A-562A-4B11-8090-F275F36F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8887E-E9BC-4BBB-8DC6-2282B7A6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A71C1-6291-4C9D-B527-FBD35A5B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EF896-932A-4FCF-B916-FECEA637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6D6BA-1009-48CC-90EB-225FD39F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E2684-E4FB-4462-B19E-16825667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A5707-F6DF-4D10-836D-2CB1334B2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AFE1C-75F2-43DF-AB38-F3A01F49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A61FB-E2A6-4A98-9AE0-5E125ECB3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23B7E-9EAE-42A8-912A-B31CF707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AD7D9-EB60-488D-AB32-4308CE05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BA99-D622-431A-9E54-66C21EF8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41E03-DA17-447D-B965-6DF2D0EE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A1DE9-A0D1-4030-8E39-1ED01E8D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85952-0B0B-45CB-89C9-B39BA642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DF2A1-9E3C-41E7-9FBB-79DAA955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AF4E9-EE85-4A8E-8252-70267D67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17505-32A1-4B08-98D4-CBD4DA48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7417E-1DB2-40A3-A01D-63E1E7D7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30A98-9C56-41EA-BCC6-A6FA16CC9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BF2D6-E13B-4D7B-AB5F-3123F4F63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F8A2-892C-4156-A389-601B0003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00E7-F9E3-4233-9943-6D06C9B2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12BB-FC9E-49FA-8CBC-3151B898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E6FD-086A-4D97-9B77-79E33F15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D0A7-9CB5-4C56-B666-38F0E6F3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6EE6-02B0-4B3E-A4FF-B38C971715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435F-99EE-4D31-90AB-0A99387897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83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8462-ADBD-4318-A773-4C9973E324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FF2A-D1EA-4CFD-923C-87B94F9A5B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Glorious Revolu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is is the story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00’s: King Henry II introduced the Jury System, King John signed the Magna Carta, Edward I started the Parli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400-1500: The Tudor Family, including Henry VIII, Edward VI, Mary I and Elizabeth I neglected democratic principles by restricting basic principles such a freedom of reli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When Elizabeth I died, her cousin James I Stuart and his son Charles I were even worse.  They ruled by divine right.  Finally, the people wanted to destroy the monarchy so they started a Civil War.  Those who supported the king were called Cavalier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ose who wanted to oust the king were called Roundheads.  The Roundheads won and Charles I was executed on January 30, 164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fortunately, Oliver Cromwell, a military dictator came to power.  He was a strict puritan who did not allow any form of entertainment such as ___________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eople get frustrated with Cromwell and demanded the return of the Stuart family to the throne.  Charles II Stuart was crowned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time period was known as the Restoration. He was known as the “Merry Monarch” because he pleased the people by allowing more freedo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mes II, Charles II brother became king when he died.  The people were concerned because James II was Catholic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olitical parties in England invited James II daughter, Mary and her husband William of Orange to overthrow the k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. When William and Mary arrived in England, James II fled the country for France.  This revolution was non-violent and is call the Glorious Revolution for this reas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 William and Mary, England was at last a firm Democratic nation.  William and Mary signed the Bill of Rights and gave Parliament more pow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.  Today England has a Constitutional Monarchy and is one of the leading democratic countries in the worl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ext Step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your translator or a dictionary to define words that you do not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is at the bottom of each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picture of each scene using color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people and objects in each sc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2T22:52:03Z</dcterms:created>
  <dc:creator>bcavanaugh</dc:creator>
  <dc:description/>
  <dc:language>en-US</dc:language>
  <cp:lastModifiedBy>Bailey Cavanaugh</cp:lastModifiedBy>
  <dcterms:modified xsi:type="dcterms:W3CDTF">2006-10-03T20:55:22Z</dcterms:modified>
  <cp:revision>3</cp:revision>
  <dc:subject/>
  <dc:title>The Glorious Revolution</dc:title>
</cp:coreProperties>
</file>